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51675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FAC-216B-4B50-B9BA-13D5ACB9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16E-B272-41CC-B3FF-74AFB0CC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8F9-1751-4271-AEA8-A2E50B4E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92E-D9A8-4417-A0B4-2F2E3891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EA0D-E6FB-4818-9724-424C82AF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810B-C007-493E-9EE0-22895E26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2B7A-AA54-4A4D-B905-DB6E169F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A659-FCDF-4660-939B-8A4DA687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FFA1-1938-42D4-820F-DF340588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0CC7-EDEB-47AB-AE3A-3C591001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A50D-5EE0-4F2A-9D82-9FC0095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395-3B84-474F-B832-469D9C46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8F23-3D52-43A0-9F4A-B8FBF98B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C3CB-FF03-4A0B-AA10-DAA3C4B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20EC-2DA4-4478-A707-B8007F45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53FE-1606-4A4E-BF52-0F80164C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0828-BF0A-4C54-97BE-5B35A9A4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F83-355F-4FDC-87FF-F173B5A3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058-5F05-4F62-AE3D-6BFB7B20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9B5-6CCB-448E-9B12-63025004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5D6-F0F7-4359-963E-2834CE7E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AB3-31B9-4CCC-A6EF-A504946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C3D-C909-49DC-B816-2363F7BE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586-46DF-451A-B4BA-8154BB2F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IPE © 200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E945-3FAA-44D8-A0B2-A8A6C4752F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Picture 20" descr="CIPE-white"/>
          <p:cNvPicPr/>
          <p:nvPr/>
        </p:nvPicPr>
        <p:blipFill>
          <a:blip r:embed="rId2"/>
          <a:stretch/>
        </p:blipFill>
        <p:spPr>
          <a:xfrm>
            <a:off x="0" y="6226200"/>
            <a:ext cx="685800" cy="63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F57D-1C9B-4B32-8F49-1CA9269F14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c8c8"/>
                </a:solidFill>
                <a:latin typeface="Tahoma"/>
              </a:rPr>
              <a:t>IS DEMOCRACY FOR EVERYONE?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rry Diamon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8c8c8"/>
                </a:solidFill>
                <a:latin typeface="Tahoma"/>
              </a:rPr>
              <a:t>Senior Fellow at the Hoover Institution Founding Coeditor of the </a:t>
            </a:r>
            <a:r>
              <a:rPr b="0" i="1" lang="en-US" sz="2800" spc="-1" strike="noStrike">
                <a:solidFill>
                  <a:srgbClr val="c8c8c8"/>
                </a:solidFill>
                <a:latin typeface="Tahoma"/>
              </a:rPr>
              <a:t>Journal of Democracy</a:t>
            </a:r>
            <a:endParaRPr b="0" lang="en-US" sz="2800" spc="-1" strike="noStrike">
              <a:solidFill>
                <a:srgbClr val="c8c8c8"/>
              </a:solidFill>
              <a:latin typeface="Tahoma"/>
            </a:endParaRPr>
          </a:p>
        </p:txBody>
      </p:sp>
      <p:pic>
        <p:nvPicPr>
          <p:cNvPr id="111" name="Picture 5" descr="CIPE-white"/>
          <p:cNvPicPr/>
          <p:nvPr/>
        </p:nvPicPr>
        <p:blipFill>
          <a:blip r:embed="rId1"/>
          <a:stretch/>
        </p:blipFill>
        <p:spPr>
          <a:xfrm>
            <a:off x="533520" y="457200"/>
            <a:ext cx="1218960" cy="1122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USCC-Logo-(3-color)"/>
          <p:cNvPicPr/>
          <p:nvPr/>
        </p:nvPicPr>
        <p:blipFill>
          <a:blip r:embed="rId2"/>
          <a:stretch/>
        </p:blipFill>
        <p:spPr>
          <a:xfrm>
            <a:off x="7848720" y="56386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NED color bug"/>
          <p:cNvPicPr/>
          <p:nvPr/>
        </p:nvPicPr>
        <p:blipFill>
          <a:blip r:embed="rId3"/>
          <a:stretch/>
        </p:blipFill>
        <p:spPr>
          <a:xfrm>
            <a:off x="457200" y="5715000"/>
            <a:ext cx="984240" cy="9302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1828800" y="60958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CIPE is an affiliate of the U.S. Chamber of Commerce and one of the four core institutes of the National Endowment for Democrac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hooverlogo.bmp"/>
          <p:cNvPicPr/>
          <p:nvPr/>
        </p:nvPicPr>
        <p:blipFill>
          <a:blip r:embed="rId4"/>
          <a:srcRect l="0" t="0" r="0" b="3018"/>
          <a:stretch/>
        </p:blipFill>
        <p:spPr>
          <a:xfrm>
            <a:off x="4343400" y="685800"/>
            <a:ext cx="4191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IPE © 200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Tahoma"/>
              </a:rPr>
              <a:t>Can every country in the world be democratic?</a:t>
            </a: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countries can become democr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ready 60% of all the states in the world can be now considered electoral democracies with free and fair ele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hare was 25% only 30 years 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umber of Muslim-majority countries have achieved democratic gover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g., Indonesia, Senegal, Pakistan,               which is returning to democr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out of five poor countries are              now democr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38880" y="4629240"/>
            <a:ext cx="1498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Tahoma"/>
              </a:rPr>
              <a:t>Islam and democracy</a:t>
            </a: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lam is not incompatible with democrac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mocracy is prevalent in Muslim-majority countries outside of the Arab Leagu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rab countries are slower with democrac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ir lack of democracy goes beyond Isla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 a large extent, the lack of democracy can be linked to the dependence on oil export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IPE © 200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143000" y="5251320"/>
            <a:ext cx="6477120" cy="1191240"/>
          </a:xfrm>
          <a:prstGeom prst="rect">
            <a:avLst/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There are 23 states in the world that derive most of their export earnings from oil and gas and not a single one is a democrac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MCj03791770000[1]"/>
          <p:cNvPicPr/>
          <p:nvPr/>
        </p:nvPicPr>
        <p:blipFill>
          <a:blip r:embed="rId1"/>
          <a:stretch/>
        </p:blipFill>
        <p:spPr>
          <a:xfrm>
            <a:off x="7848720" y="54100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Tahoma"/>
              </a:rPr>
              <a:t>Democracy in Asia</a:t>
            </a: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na’s economic dynamism is impres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how long can this alternative model of economic success without democracy la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ian democracy in the long-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0 years from now India is likely to maintain the same political instit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China’s political system is likely to see changes due to popular expec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a can change either incrementally or drast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IPE © 200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Tahoma"/>
              </a:rPr>
              <a:t>The changes underway in China</a:t>
            </a: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04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ise of independent business associations and other kinds of civil society organizations in Southern Chin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p members of China’s new influential “capitalist class” accept the Communist r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T mid-level and smaller entrepreneurs want less corruption and more transpar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th of pluralism and civil socie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vironmental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 rights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gious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IPE © 200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7269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444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Tahoma"/>
              </a:rPr>
              <a:t>A democratic world – how do we get there?</a:t>
            </a: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ends so far are very posi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th in the number of democracies, as well as their stability and rootedn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tin America, Korea,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rld of democracies will take decades of reforms in many area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onomic policies and grow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stru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obal values and n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IPE © 200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c8c8"/>
                </a:solidFill>
                <a:latin typeface="Tahoma"/>
              </a:rPr>
              <a:t>Global spread of democratic norms</a:t>
            </a:r>
            <a:endParaRPr b="0" lang="en-US" sz="4400" spc="-1" strike="noStrike">
              <a:solidFill>
                <a:srgbClr val="c8c8c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re is growth of democratic norms in international covenants and chart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ocracy is codified in the Charter of the Organization of American States and the new Charter of the African Un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n authoritarian governments try to mask their practices with a veneer of democr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international community should persist in peacefully supporting movements for democracy around the world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IPE © 200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5692680"/>
            <a:ext cx="746784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ocracy continues to be the only truly legitimate form of govern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3:57:02Z</dcterms:created>
  <dc:creator>CIPE</dc:creator>
  <dc:description/>
  <dc:language>en-US</dc:language>
  <cp:lastModifiedBy>Intern5</cp:lastModifiedBy>
  <dcterms:modified xsi:type="dcterms:W3CDTF">2008-06-24T21:32:04Z</dcterms:modified>
  <cp:revision>3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